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AA7-6488-4404-9FAB-0E922F89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E2D-A180-43C1-BDC4-DA07B38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673-EE59-4784-B954-844FE76C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BD2-2796-4A9C-9668-E722594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ED5-88A8-414D-B02B-237FF91B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D7F-62A7-4F08-BFBE-F76B9704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D2B-4DE2-4C81-9081-73323D18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352-4B61-4D65-9E50-3236D81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B79-C10B-4E96-AB15-6E9C31D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054-94A3-45A0-A92D-C1A4B10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61B-354D-4329-8AE0-57AEDDB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D37-4586-457F-AA60-1F0F0C1B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EB0-926A-4D52-827F-CCFBCF2E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620640"/>
          <a:ext cx="7704000" cy="7002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11280" y="1774800"/>
          <a:ext cx="7561080" cy="165420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SIRAP-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9640" y="140652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57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3933720"/>
          <a:ext cx="7705800" cy="215928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Regional de Áreas Protegidas (SILAP- CARDIQ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zonas de subsidencias para incorporar en los PL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11280" y="476280"/>
          <a:ext cx="8064360" cy="9367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5 - Mejor gest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de los recursos natur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280" y="1600200"/>
          <a:ext cx="8075520" cy="1255680"/>
        </p:xfrm>
        <a:graphic>
          <a:graphicData uri="http://schemas.openxmlformats.org/drawingml/2006/table">
            <a:tbl>
              <a:tblPr/>
              <a:tblGrid>
                <a:gridCol w="80755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para una política regional de 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s en priorización para la conservación de ecosi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xpedición botánica en los Montes de María para la articulación de los programas y proyectos del Jardín Botánico "Guillermo Piñeres"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28280" y="33577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Verdana"/>
              </a:rPr>
              <a:t>Laboratorio de Calidad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0400" y="3860640"/>
          <a:ext cx="8229600" cy="1919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Red de Calidad Agua Marina REDC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sición y modernización de equipos de laboratorios (físico - química y microbiología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dquisición de insumos y materiales para funcionamiento del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mantenimiento y calibración de equip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er la acreditación  y ampliar los parámetros acredita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719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Sistema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73200" y="1125360"/>
          <a:ext cx="8002440" cy="2248200"/>
        </p:xfrm>
        <a:graphic>
          <a:graphicData uri="http://schemas.openxmlformats.org/drawingml/2006/table">
            <a:tbl>
              <a:tblPr/>
              <a:tblGrid>
                <a:gridCol w="800244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y actualización del software para el manejo de datos espaciales del sistema de información geográfica ambiental de Cardique – Sigac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Base de Datos y construcción de Web Services sobre ArcGIS Server y migración de base de datos CONGONA al sistema de coordenadas Magna-Sirgas, publicación de mapas a la intranet corporativa con el área de Sistema de Información Geográfica en la nueva plataforma ArcGis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008720" y="391176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olidación del desarrollo corpo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4292640"/>
          <a:ext cx="7991280" cy="158436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y retroalimentación del Plan Estadístico Corpo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e implementación del Laboratorio para Bioensay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ar a los municipios de la jurisdicción en su actualización catas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rnización del Centro de Documentación (salas de video, internet e infant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84360" y="5877000"/>
            <a:ext cx="799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ción Sistema de Gestión de Calidad ISO9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39640" y="476280"/>
          <a:ext cx="8218440" cy="8348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6 - Educac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esoría y apoyo a proyectos institucionales y comun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39640" y="1646280"/>
          <a:ext cx="8137440" cy="36543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en la formulación, adopción e implementación del Plan de Educación Ambiental  Departamen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ompañamiento a los C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y capacitación de funcionarios de los entes terri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los Comités Técnicos Interinstitucionales  de Educación Ambiental Municip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sión de la dimensión ambiental en el desarrollo de proyectos ecoturísti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ientización y sensibilización del panorama de amenazas en los municipios con PLECs formul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vulgación de mensajes institucionales por radio comunitar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333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trucción de una cultura ambiental desde las escuelas y la comunidad en general y su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9280" y="1052640"/>
          <a:ext cx="8245440" cy="2985840"/>
        </p:xfrm>
        <a:graphic>
          <a:graphicData uri="http://schemas.openxmlformats.org/drawingml/2006/table">
            <a:tbl>
              <a:tblPr/>
              <a:tblGrid>
                <a:gridCol w="824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nsibilización de las comunidades de la jurisdicción en cuanto a la preservación de las especies de fauna y flo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celebración de eventos y conmemoración de fechas del calendario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de la investigación a partir de vivero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para la construcción de los viveros comun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aboración y actualización inventario de PRA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Proyectos ambientales Escola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097280" y="4406760"/>
            <a:ext cx="67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Formación a dinamizadores y gestore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4869000"/>
          <a:ext cx="8137440" cy="93492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 de clubes de radio escolar en los municipios de la jurisdi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84360" y="580536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 formación en gestión ambiental comunitaria, local y reg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18012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alecimiento de proyectos comunitarios de educación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0280" y="720720"/>
          <a:ext cx="8218440" cy="14000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7 - Parque Natural Distrital Ciénaga de la Vi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peración y conservación del Parque Natural Distrital Ciénaga de la Virgen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9640" y="2516040"/>
          <a:ext cx="8136000" cy="29289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acitación en temas de educación ambiental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proyectos productivos comunitari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monitoreo de la implementación del P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los perfiles de proyectos que conlleven al mejoramiento hidráulico y al saneamiento ambiental de los arroyos y canales que vierten hacia la Ciénaga de la Vir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terventorías de proyectos, obras o activ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928800"/>
          <a:ext cx="8351640" cy="699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68360" y="16225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iénaga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2133720"/>
          <a:ext cx="8209080" cy="436068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de la capacidad instalada institucional para la implementación del SIGAM Ins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erosión cos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y divulgación de los programas y proyectos del POMCA Ciénaga de la Vir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9640" y="476280"/>
          <a:ext cx="8352000" cy="82080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 de aguas superfi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11280" y="1549440"/>
          <a:ext cx="8208720" cy="25621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Zonificación de uso y manejo de la Bahía de Cartagena en convenio con el Distrito de Cartag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cuerpos de agua de la jurisdicción (fase 5 y 6), decreto 1323/0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stalar algunas estaciones hidrometeorológicas o ambientales, en los sitios más adecuados, contribuirá en lo climático, ambiental y la atención y prevención de desast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y modelación para alerta temprana por contaminación de aguas superficiales ocasionada por derrames terrestr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2720" y="4118040"/>
          <a:ext cx="8207280" cy="15573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trabajos manuales para la restauración hidrodiná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de canales pluviales área de jurisdicción (con énfasis en los urbanos del distrito de Cartage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actividades de limpieza de ciénagas y cauces de arroyos de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55640" y="1916280"/>
          <a:ext cx="7848720" cy="24955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las aguas subterráneas de la jurisdicción (fase 5 o 6), decreto 1323/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estudios de vulnerabilidad de las aguas subterrán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MA de las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ir un índice de escasez de las aguas subterráneas, resolución 865  (costo/benefic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55640" y="692280"/>
          <a:ext cx="7848720" cy="11476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tión de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68360" y="1052640"/>
          <a:ext cx="8351640" cy="114120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3 - Bosques y manglares como hábitat de biodiver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forestal y zonas ver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2276640"/>
          <a:ext cx="8351640" cy="20667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evaluación a los programas de compensación fore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boscosa en zonas afectadas por el síndrome fungal (phytoptera) en la ecorregión Montes de Marí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de ecosistemas de bosque seco trop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venios para establecer viveros regionale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4340160"/>
          <a:ext cx="8351640" cy="12495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seguimiento a los Permisos de Aprovechamiento Forestal (PA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tala indiscriminada, tráfico y comercialización de la flora 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olidación y recuperación de áreas de espacio público en la jurisdic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orestación productora-protect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5280" y="981000"/>
          <a:ext cx="8424720" cy="1446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forestación cuencas priorizadas de la jurisdicción con especies nativas para proteger cuencas abastecedoras de acueductos de centros poblados y cuencas de los arroyos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a reforestación añ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00560" y="3171960"/>
            <a:ext cx="622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Implementación de la zonificación del mang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2200" y="3645000"/>
          <a:ext cx="8570880" cy="2838240"/>
        </p:xfrm>
        <a:graphic>
          <a:graphicData uri="http://schemas.openxmlformats.org/drawingml/2006/table">
            <a:tbl>
              <a:tblPr/>
              <a:tblGrid>
                <a:gridCol w="8570880"/>
              </a:tblGrid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lanes de Manejo  de areas priorizadas en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ar un programa de educación ambiental con enfasis en la conservación del manglar en la zona cos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de canales para la restauración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egetalización de áreas manglá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trolar la tala indiscriminada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la zonificación de manglares de la jurisdi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del Plan de Manejo de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, uso y manejo de fauna silvest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5280" y="1125360"/>
          <a:ext cx="8424720" cy="47527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ostico sobre especies invasoras en la jurisdicción de Card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sobre flora y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blamiento con especies ícticas 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de poblaciones naturales para especies amenaz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programa de conserv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s y requerimientos de infraestructura para la construcción e implementación de un Centro de Atención y Valoración de la Fauna Silvestre en el Área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caza, tráfico y comercialización indiscriminada de la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052640"/>
          <a:ext cx="8351640" cy="10681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4 - Sostenibilidad ambiental del desarrollo urbano y 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nejo de residuos urb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8360" y="2349360"/>
          <a:ext cx="8351640" cy="18129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crementar el aprovechamiento  de los residuos orgán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en los municipios los canales de comercialización de residuos s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promoción, creación y consolidación de empresas comunitarias de as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8360" y="4164120"/>
          <a:ext cx="8351280" cy="73332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un programa de sensibilización para la separación en l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8360" y="4897440"/>
          <a:ext cx="8351640" cy="3650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en la implementación de los PGIRS muni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469800"/>
          <a:ext cx="8351640" cy="6476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lementación de procesos productivos limpios, urbano y rural, mercados verdes y mecanismos de desarrollo limp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4000" y="1211400"/>
          <a:ext cx="8351640" cy="401148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 e implementación de un software para seguimiento de actividades empresariales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plaguicidas (tipo de producto, distribuidores, uso, impacto, disposición final)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ventario  de fuentes fijas y móviles en el área de Mamonal y Pasacabal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el mapa de ruidos del área de influencia del complejo industrial de Mam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actividades portuarias en la Bahía de Cartage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y seguimiento de convenios de producción mas lim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r y actualizar nuevas fuentes generadoras d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r estrategias de educación, concientización, control y seguimiento sobr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24000" y="5222880"/>
          <a:ext cx="8351640" cy="1158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la gestión adecuada de los aceites usados, PCBs aceites dieléctricos y Agroquími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a entidades prestadoras de salud que disponen adecuadamente los residuos hospital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1:16:46Z</dcterms:created>
  <dc:creator>GONZALO POSADA</dc:creator>
  <dc:description/>
  <dc:language>en-US</dc:language>
  <cp:lastModifiedBy>GONZALO POSADA</cp:lastModifiedBy>
  <dcterms:modified xsi:type="dcterms:W3CDTF">2009-09-30T22:50:54Z</dcterms:modified>
  <cp:revision>22</cp:revision>
  <dc:subject/>
  <dc:title>Diapositiva 1</dc:title>
</cp:coreProperties>
</file>