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545-EB58-45B5-966B-D10F6D34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303-68F0-40BF-BA31-62E46D62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838-7F75-4EB0-B601-7A4DEE0A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1B8-09FD-4B31-8BE9-C0D1A3A1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D0D-19D8-4C94-BAE4-A2E618F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E07-E371-4321-B634-A31AF446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827-B04E-4622-97DE-1C87942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995-E498-4C86-B077-9DA21EF5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A97-A89F-4E06-B37D-077EE917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F4F-0B97-4CD7-AB48-5263838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11D-7743-4701-BA76-09822D1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774-22F9-46D0-B48B-77975500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8B7-47A9-4593-805B-08EF210D19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80" y="533520"/>
            <a:ext cx="9058320" cy="5638320"/>
            <a:chOff x="44280" y="533520"/>
            <a:chExt cx="9058320" cy="5638320"/>
          </a:xfrm>
        </p:grpSpPr>
        <p:sp>
          <p:nvSpPr>
            <p:cNvPr id="42" name=""/>
            <p:cNvSpPr/>
            <p:nvPr/>
          </p:nvSpPr>
          <p:spPr>
            <a:xfrm>
              <a:off x="2787480" y="533520"/>
              <a:ext cx="33084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78360" y="620280"/>
              <a:ext cx="2898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PLANEACIÓ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1840" y="2977920"/>
              <a:ext cx="19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303876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67920" y="3130920"/>
              <a:ext cx="177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BRAS PÚB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5000" y="3038760"/>
              <a:ext cx="338760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11840" y="3135600"/>
              <a:ext cx="31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IMIENTO Y EVALU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680" y="4606200"/>
              <a:ext cx="137304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00" y="468360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C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640" y="51840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OL UR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6800" y="5684400"/>
              <a:ext cx="188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SPACIO PÚBL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6480" y="4448520"/>
              <a:ext cx="1461960" cy="14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1080" y="4527360"/>
              <a:ext cx="186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RVENTOR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31080" y="5032800"/>
              <a:ext cx="1713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64360" y="429228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48240" y="4371480"/>
              <a:ext cx="24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 DE DESARROLL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8960" y="4871880"/>
              <a:ext cx="242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ANCOS DE PROYEC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5080" y="53722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8600" y="5870880"/>
              <a:ext cx="23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LANES DE INVERS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24640" y="1473480"/>
              <a:ext cx="302076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8960" y="1564920"/>
              <a:ext cx="29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TERRITORIAL DE 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1159560"/>
              <a:ext cx="1440" cy="12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90440" y="2413080"/>
              <a:ext cx="100080" cy="313200"/>
              <a:chOff x="1090440" y="2413080"/>
              <a:chExt cx="100080" cy="313200"/>
            </a:xfrm>
          </p:grpSpPr>
          <p:sp>
            <p:nvSpPr>
              <p:cNvPr id="67" name=""/>
              <p:cNvSpPr/>
              <p:nvPr/>
            </p:nvSpPr>
            <p:spPr>
              <a:xfrm>
                <a:off x="114156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9044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835440" y="2413080"/>
              <a:ext cx="98280" cy="313200"/>
              <a:chOff x="3835440" y="2413080"/>
              <a:chExt cx="98280" cy="313200"/>
            </a:xfrm>
          </p:grpSpPr>
          <p:sp>
            <p:nvSpPr>
              <p:cNvPr id="70" name=""/>
              <p:cNvSpPr/>
              <p:nvPr/>
            </p:nvSpPr>
            <p:spPr>
              <a:xfrm>
                <a:off x="388620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35440" y="2556000"/>
                <a:ext cx="9828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310520" y="2413080"/>
              <a:ext cx="100080" cy="313200"/>
              <a:chOff x="7310520" y="2413080"/>
              <a:chExt cx="100080" cy="313200"/>
            </a:xfrm>
          </p:grpSpPr>
          <p:sp>
            <p:nvSpPr>
              <p:cNvPr id="73" name=""/>
              <p:cNvSpPr/>
              <p:nvPr/>
            </p:nvSpPr>
            <p:spPr>
              <a:xfrm>
                <a:off x="7361280" y="241308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10520" y="255600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881520" y="1703160"/>
              <a:ext cx="1650960" cy="170280"/>
              <a:chOff x="3881520" y="1703160"/>
              <a:chExt cx="1650960" cy="170280"/>
            </a:xfrm>
          </p:grpSpPr>
          <p:sp>
            <p:nvSpPr>
              <p:cNvPr id="76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33840" y="1703160"/>
                <a:ext cx="98640" cy="17028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7160" y="3508920"/>
              <a:ext cx="1440" cy="21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7160" y="4680360"/>
              <a:ext cx="182520" cy="168480"/>
              <a:chOff x="227160" y="4680360"/>
              <a:chExt cx="182520" cy="16848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" y="47620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1040" y="46803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" y="5150160"/>
              <a:ext cx="182520" cy="168480"/>
              <a:chOff x="227160" y="5150160"/>
              <a:chExt cx="182520" cy="16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040" y="51501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7160" y="5619960"/>
              <a:ext cx="182520" cy="168480"/>
              <a:chOff x="227160" y="5619960"/>
              <a:chExt cx="182520" cy="168480"/>
            </a:xfrm>
          </p:grpSpPr>
          <p:sp>
            <p:nvSpPr>
              <p:cNvPr id="107" name=""/>
              <p:cNvSpPr/>
              <p:nvPr/>
            </p:nvSpPr>
            <p:spPr>
              <a:xfrm>
                <a:off x="227160" y="5701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1040" y="5619960"/>
                <a:ext cx="98640" cy="16848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62160" y="3508920"/>
              <a:ext cx="1800" cy="17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62160" y="4522680"/>
              <a:ext cx="184320" cy="169920"/>
              <a:chOff x="3062160" y="4522680"/>
              <a:chExt cx="184320" cy="169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46400" y="45226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62160" y="5150160"/>
              <a:ext cx="184320" cy="168480"/>
              <a:chOff x="3062160" y="5150160"/>
              <a:chExt cx="184320" cy="168480"/>
            </a:xfrm>
          </p:grpSpPr>
          <p:sp>
            <p:nvSpPr>
              <p:cNvPr id="114" name=""/>
              <p:cNvSpPr/>
              <p:nvPr/>
            </p:nvSpPr>
            <p:spPr>
              <a:xfrm>
                <a:off x="3062160" y="523188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6400" y="515016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989680" y="3666600"/>
              <a:ext cx="1440" cy="23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989680" y="4366440"/>
              <a:ext cx="274680" cy="168480"/>
              <a:chOff x="5989680" y="4366440"/>
              <a:chExt cx="274680" cy="1684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89680" y="444816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64280" y="4366440"/>
                <a:ext cx="100080" cy="1684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4992480"/>
              <a:ext cx="274680" cy="169920"/>
              <a:chOff x="5989680" y="4992480"/>
              <a:chExt cx="274680" cy="169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64280" y="499248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89680" y="5462280"/>
              <a:ext cx="274680" cy="170280"/>
              <a:chOff x="5989680" y="5462280"/>
              <a:chExt cx="274680" cy="170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64280" y="5462280"/>
                <a:ext cx="100080" cy="17028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89680" y="5932440"/>
              <a:ext cx="274680" cy="169920"/>
              <a:chOff x="5989680" y="5932440"/>
              <a:chExt cx="274680" cy="169920"/>
            </a:xfrm>
          </p:grpSpPr>
          <p:sp>
            <p:nvSpPr>
              <p:cNvPr id="127" name=""/>
              <p:cNvSpPr/>
              <p:nvPr/>
            </p:nvSpPr>
            <p:spPr>
              <a:xfrm>
                <a:off x="5989680" y="601560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4280" y="5932440"/>
                <a:ext cx="100080" cy="16992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28600" y="533520"/>
            <a:ext cx="8813880" cy="5638680"/>
            <a:chOff x="228600" y="533520"/>
            <a:chExt cx="8813880" cy="5638680"/>
          </a:xfrm>
        </p:grpSpPr>
        <p:sp>
          <p:nvSpPr>
            <p:cNvPr id="130" name=""/>
            <p:cNvSpPr/>
            <p:nvPr/>
          </p:nvSpPr>
          <p:spPr>
            <a:xfrm>
              <a:off x="2133720" y="533520"/>
              <a:ext cx="4876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DAD DE DESARROLLORURAL Y MEDIO AMBI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78000" y="6206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2882880"/>
              <a:ext cx="152388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00" y="310824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M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7280" y="3025800"/>
              <a:ext cx="22860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760" y="3184560"/>
              <a:ext cx="18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4360" y="4292640"/>
              <a:ext cx="2195280" cy="18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3280" y="4371840"/>
              <a:ext cx="114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ANTER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4871880"/>
              <a:ext cx="226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NEMIENTO BAS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960" y="5372280"/>
              <a:ext cx="2693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TRIMONIO AMBIEN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24640" y="1473120"/>
              <a:ext cx="30207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5480" y="1646280"/>
              <a:ext cx="251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EJO DE DESARROLLO 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146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14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94360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89680" y="4343400"/>
              <a:ext cx="334440" cy="191880"/>
              <a:chOff x="5989680" y="4343400"/>
              <a:chExt cx="334440" cy="191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89680" y="4436640"/>
                <a:ext cx="220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2440" y="4343400"/>
                <a:ext cx="121680" cy="19188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943600" y="4952880"/>
              <a:ext cx="380520" cy="228240"/>
              <a:chOff x="5943600" y="4952880"/>
              <a:chExt cx="380520" cy="228240"/>
            </a:xfrm>
          </p:grpSpPr>
          <p:sp>
            <p:nvSpPr>
              <p:cNvPr id="180" name=""/>
              <p:cNvSpPr/>
              <p:nvPr/>
            </p:nvSpPr>
            <p:spPr>
              <a:xfrm>
                <a:off x="5943600" y="5064840"/>
                <a:ext cx="250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5520" y="4952880"/>
                <a:ext cx="138600" cy="22824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89680" y="5462640"/>
              <a:ext cx="274680" cy="169560"/>
              <a:chOff x="5989680" y="5462640"/>
              <a:chExt cx="274680" cy="169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989680" y="554580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64280" y="546264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4280" y="457200"/>
            <a:ext cx="8337600" cy="4485600"/>
            <a:chOff x="44280" y="457200"/>
            <a:chExt cx="8337600" cy="4485600"/>
          </a:xfrm>
        </p:grpSpPr>
        <p:sp>
          <p:nvSpPr>
            <p:cNvPr id="186" name=""/>
            <p:cNvSpPr/>
            <p:nvPr/>
          </p:nvSpPr>
          <p:spPr>
            <a:xfrm>
              <a:off x="2286000" y="457200"/>
              <a:ext cx="41911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6120" y="457200"/>
              <a:ext cx="3789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RETARIA DE HACIENDA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ÉDITO PU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560" y="2978280"/>
              <a:ext cx="1526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CCIÓN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UPUE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2878200"/>
              <a:ext cx="2104920" cy="4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7520" y="297180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SORE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2819520"/>
              <a:ext cx="236196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5200" y="2955960"/>
              <a:ext cx="160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400" y="468324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000" y="426708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A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5760" y="38862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24640" y="1473120"/>
              <a:ext cx="1919160" cy="4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156528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ITE DE HACIE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02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05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08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81520" y="1703520"/>
              <a:ext cx="1650960" cy="169200"/>
              <a:chOff x="3881520" y="1703520"/>
              <a:chExt cx="1650960" cy="169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81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513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226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94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655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37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084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783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4960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212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925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64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340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052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4820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984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89680" y="1776960"/>
                <a:ext cx="52200" cy="176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3" y="8"/>
                    </a:lnTo>
                    <a:lnTo>
                      <a:pt x="33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609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4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32240" y="1776960"/>
                <a:ext cx="5112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1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0388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75160" y="1776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32" h="11">
                    <a:moveTo>
                      <a:pt x="3" y="0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33840" y="1703520"/>
                <a:ext cx="98640" cy="1692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106"/>
                    </a:moveTo>
                    <a:lnTo>
                      <a:pt x="62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27160" y="3508200"/>
              <a:ext cx="144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4680" y="4680000"/>
              <a:ext cx="182520" cy="169560"/>
              <a:chOff x="274680" y="4680000"/>
              <a:chExt cx="182520" cy="169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7468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856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74680" y="4267080"/>
              <a:ext cx="182520" cy="169560"/>
              <a:chOff x="274680" y="4267080"/>
              <a:chExt cx="182520" cy="1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680" y="434952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560" y="426708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048120" y="3352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062160" y="3886200"/>
              <a:ext cx="184320" cy="169560"/>
              <a:chOff x="3062160" y="3886200"/>
              <a:chExt cx="184320" cy="169560"/>
            </a:xfrm>
          </p:grpSpPr>
          <p:sp>
            <p:nvSpPr>
              <p:cNvPr id="243" name=""/>
              <p:cNvSpPr/>
              <p:nvPr/>
            </p:nvSpPr>
            <p:spPr>
              <a:xfrm>
                <a:off x="3062160" y="39693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46400" y="38862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4280" y="533520"/>
            <a:ext cx="8794800" cy="5324400"/>
            <a:chOff x="44280" y="533520"/>
            <a:chExt cx="8794800" cy="5324400"/>
          </a:xfrm>
        </p:grpSpPr>
        <p:sp>
          <p:nvSpPr>
            <p:cNvPr id="246" name=""/>
            <p:cNvSpPr/>
            <p:nvPr/>
          </p:nvSpPr>
          <p:spPr>
            <a:xfrm>
              <a:off x="2362320" y="533520"/>
              <a:ext cx="3733560" cy="63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5400" y="620640"/>
              <a:ext cx="356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GRETARIA DE GOBI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280" y="2882880"/>
              <a:ext cx="2197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680" y="2978280"/>
              <a:ext cx="1706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ICIP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895480"/>
              <a:ext cx="2895480" cy="61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971800"/>
              <a:ext cx="2752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ENCION Y PREVENC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ESAS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2895480"/>
              <a:ext cx="2971800" cy="6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0" y="3135240"/>
              <a:ext cx="251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GURIDAD CIUDA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360" y="4648320"/>
              <a:ext cx="550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J.A.C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600" y="5105520"/>
              <a:ext cx="125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ITÉ J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6480" y="4448160"/>
              <a:ext cx="14619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7920" y="4451400"/>
              <a:ext cx="1946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ONAS DE AMENAZ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 RIEZ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7200" y="5121360"/>
              <a:ext cx="228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ANCIAS DE ATEN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1160" y="4343400"/>
              <a:ext cx="20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ENCIÓN POLICI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1158840"/>
              <a:ext cx="1440" cy="12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1560" y="2413080"/>
              <a:ext cx="621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0440" y="2413080"/>
              <a:ext cx="100080" cy="313920"/>
              <a:chOff x="1090440" y="2413080"/>
              <a:chExt cx="100080" cy="3139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156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9044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835440" y="2413080"/>
              <a:ext cx="98280" cy="313920"/>
              <a:chOff x="3835440" y="2413080"/>
              <a:chExt cx="98280" cy="31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388620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35440" y="2556000"/>
                <a:ext cx="98280" cy="171000"/>
              </a:xfrm>
              <a:custGeom>
                <a:avLst/>
                <a:gdLst/>
                <a:ahLst/>
                <a:rect l="l" t="t" r="r" b="b"/>
                <a:pathLst>
                  <a:path w="62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310520" y="2413080"/>
              <a:ext cx="100080" cy="313920"/>
              <a:chOff x="7310520" y="2413080"/>
              <a:chExt cx="100080" cy="313920"/>
            </a:xfrm>
          </p:grpSpPr>
          <p:sp>
            <p:nvSpPr>
              <p:cNvPr id="269" name=""/>
              <p:cNvSpPr/>
              <p:nvPr/>
            </p:nvSpPr>
            <p:spPr>
              <a:xfrm>
                <a:off x="7361280" y="2413080"/>
                <a:ext cx="144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10520" y="2556000"/>
                <a:ext cx="100080" cy="1710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0"/>
                    </a:moveTo>
                    <a:lnTo>
                      <a:pt x="32" y="106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28600" y="3505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27160" y="4680000"/>
              <a:ext cx="182520" cy="169560"/>
              <a:chOff x="227160" y="4680000"/>
              <a:chExt cx="182520" cy="16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27160" y="47624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1040" y="46800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7160" y="5149800"/>
              <a:ext cx="182520" cy="169560"/>
              <a:chOff x="227160" y="5149800"/>
              <a:chExt cx="182520" cy="16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227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1040" y="5149800"/>
                <a:ext cx="98640" cy="169560"/>
              </a:xfrm>
              <a:custGeom>
                <a:avLst/>
                <a:gdLst/>
                <a:ahLst/>
                <a:rect l="l" t="t" r="r" b="b"/>
                <a:pathLst>
                  <a:path w="62" h="105">
                    <a:moveTo>
                      <a:pt x="0" y="105"/>
                    </a:moveTo>
                    <a:lnTo>
                      <a:pt x="62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62160" y="3508200"/>
              <a:ext cx="180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062160" y="4522680"/>
              <a:ext cx="184320" cy="169560"/>
              <a:chOff x="3062160" y="4522680"/>
              <a:chExt cx="184320" cy="169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062160" y="460584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46400" y="452268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062160" y="5149800"/>
              <a:ext cx="184320" cy="169560"/>
              <a:chOff x="3062160" y="5149800"/>
              <a:chExt cx="184320" cy="16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062160" y="52322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6400" y="5149800"/>
                <a:ext cx="100080" cy="16956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1992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989680" y="4367160"/>
              <a:ext cx="274680" cy="168120"/>
              <a:chOff x="5989680" y="4367160"/>
              <a:chExt cx="274680" cy="168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989680" y="4448880"/>
                <a:ext cx="18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64280" y="4367160"/>
                <a:ext cx="100080" cy="168120"/>
              </a:xfrm>
              <a:custGeom>
                <a:avLst/>
                <a:gdLst/>
                <a:ahLst/>
                <a:rect l="l" t="t" r="r" b="b"/>
                <a:pathLst>
                  <a:path w="63" h="105">
                    <a:moveTo>
                      <a:pt x="0" y="105"/>
                    </a:moveTo>
                    <a:lnTo>
                      <a:pt x="63" y="51"/>
                    </a:lnTo>
                    <a:lnTo>
                      <a:pt x="0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989680" y="4992840"/>
              <a:ext cx="274680" cy="169200"/>
              <a:chOff x="5989680" y="4992840"/>
              <a:chExt cx="274680" cy="169200"/>
            </a:xfrm>
          </p:grpSpPr>
          <p:sp>
            <p:nvSpPr>
              <p:cNvPr id="290" name=""/>
              <p:cNvSpPr/>
              <p:nvPr/>
            </p:nvSpPr>
            <p:spPr>
              <a:xfrm>
                <a:off x="5989680" y="5075640"/>
                <a:ext cx="18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64280" y="4992840"/>
                <a:ext cx="100080" cy="169200"/>
              </a:xfrm>
              <a:custGeom>
                <a:avLst/>
                <a:gdLst/>
                <a:ahLst/>
                <a:rect l="l" t="t" r="r" b="b"/>
                <a:pathLst>
                  <a:path w="63" h="106">
                    <a:moveTo>
                      <a:pt x="0" y="106"/>
                    </a:moveTo>
                    <a:lnTo>
                      <a:pt x="63" y="52"/>
                    </a:lnTo>
                    <a:lnTo>
                      <a:pt x="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6400800" y="4876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CIÓN COMU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66880" y="304920"/>
            <a:ext cx="3733920" cy="85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760" y="457200"/>
            <a:ext cx="346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DO MUNICIPAL 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COTUR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800" y="2978280"/>
            <a:ext cx="1919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C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2895480"/>
            <a:ext cx="2133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3280" y="297180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680" y="4606920"/>
            <a:ext cx="137304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7920" y="1158840"/>
            <a:ext cx="180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2413080"/>
            <a:ext cx="62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90440" y="2413080"/>
            <a:ext cx="100080" cy="313920"/>
            <a:chOff x="1090440" y="2413080"/>
            <a:chExt cx="100080" cy="313920"/>
          </a:xfrm>
        </p:grpSpPr>
        <p:sp>
          <p:nvSpPr>
            <p:cNvPr id="302" name=""/>
            <p:cNvSpPr/>
            <p:nvPr/>
          </p:nvSpPr>
          <p:spPr>
            <a:xfrm>
              <a:off x="114156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9044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310520" y="2413080"/>
            <a:ext cx="100080" cy="313920"/>
            <a:chOff x="7310520" y="2413080"/>
            <a:chExt cx="100080" cy="313920"/>
          </a:xfrm>
        </p:grpSpPr>
        <p:sp>
          <p:nvSpPr>
            <p:cNvPr id="305" name=""/>
            <p:cNvSpPr/>
            <p:nvPr/>
          </p:nvSpPr>
          <p:spPr>
            <a:xfrm>
              <a:off x="7361280" y="2413080"/>
              <a:ext cx="1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520" y="2556000"/>
              <a:ext cx="100080" cy="17100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0" y="0"/>
                  </a:moveTo>
                  <a:lnTo>
                    <a:pt x="32" y="10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85800" y="289548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11:25:27Z</dcterms:created>
  <dc:creator>ZZZZZ</dc:creator>
  <dc:description/>
  <dc:language>en-US</dc:language>
  <cp:lastModifiedBy>L</cp:lastModifiedBy>
  <dcterms:modified xsi:type="dcterms:W3CDTF">1999-11-23T14:08:28Z</dcterms:modified>
  <cp:revision>11</cp:revision>
  <dc:subject/>
  <dc:title>Sin título de diapositiva</dc:title>
</cp:coreProperties>
</file>