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7156-1C2B-400B-851A-4991CC20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079-78F0-4FB6-86C4-CB0CD3C3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7F9-17FE-4131-9335-64B2596A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C979-F339-4045-88E8-BE71836D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3EA-37D8-48D6-BC82-3A3C0A58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6A1-F7CD-4EC6-99BB-843F4CD8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E5A-B63F-4CC3-B92D-CEF5885B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9CA-1FAD-4306-9DAF-FA08692D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C060-B346-4605-A843-14C8C05B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333-F885-421F-B529-E206300D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D48-B19C-4519-A896-4E1EE491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2AE-20B2-4D4E-BA0D-09688667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4E42-5950-4AA7-803D-383EBDD55AC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4280" y="533520"/>
            <a:ext cx="9058320" cy="5638320"/>
            <a:chOff x="44280" y="533520"/>
            <a:chExt cx="9058320" cy="5638320"/>
          </a:xfrm>
        </p:grpSpPr>
        <p:sp>
          <p:nvSpPr>
            <p:cNvPr id="42" name=""/>
            <p:cNvSpPr/>
            <p:nvPr/>
          </p:nvSpPr>
          <p:spPr>
            <a:xfrm>
              <a:off x="2787480" y="533520"/>
              <a:ext cx="3308400" cy="63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78360" y="620280"/>
              <a:ext cx="28980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PLANEACIÓN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280" y="2882880"/>
              <a:ext cx="219744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1840" y="2977920"/>
              <a:ext cx="19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ROL URBA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71800" y="3038760"/>
              <a:ext cx="2104920" cy="47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67920" y="3130920"/>
              <a:ext cx="177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BRAS PÚB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15000" y="3038760"/>
              <a:ext cx="3387600" cy="63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811840" y="3135600"/>
              <a:ext cx="310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GUIMIENTO Y EVALU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9680" y="4606200"/>
              <a:ext cx="1373040" cy="140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8600" y="4683600"/>
              <a:ext cx="1132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ICENCI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4640" y="5184000"/>
              <a:ext cx="199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NTROL URBAN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6800" y="5684400"/>
              <a:ext cx="188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SPACIO PÚBLI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46480" y="4448520"/>
              <a:ext cx="1461960" cy="140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31080" y="4527360"/>
              <a:ext cx="186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NTERVENTORI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31080" y="5032800"/>
              <a:ext cx="1713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NTRATACIÓ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64360" y="4292280"/>
              <a:ext cx="2195280" cy="18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48240" y="4371480"/>
              <a:ext cx="24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LAN DE DESARROLL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48960" y="4871880"/>
              <a:ext cx="242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ANCOS DE PROYEC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55080" y="537228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48600" y="5870880"/>
              <a:ext cx="23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LANES DE INVERSIÓ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24640" y="1473480"/>
              <a:ext cx="3020760" cy="47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18960" y="1564920"/>
              <a:ext cx="295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SEJO TERRITORIAL DE PLANE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6200" y="1159560"/>
              <a:ext cx="1440" cy="12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41560" y="2413080"/>
              <a:ext cx="621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090440" y="2413080"/>
              <a:ext cx="100080" cy="313200"/>
              <a:chOff x="1090440" y="2413080"/>
              <a:chExt cx="100080" cy="313200"/>
            </a:xfrm>
          </p:grpSpPr>
          <p:sp>
            <p:nvSpPr>
              <p:cNvPr id="67" name=""/>
              <p:cNvSpPr/>
              <p:nvPr/>
            </p:nvSpPr>
            <p:spPr>
              <a:xfrm>
                <a:off x="1141560" y="241308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090440" y="2556000"/>
                <a:ext cx="100080" cy="17028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3835440" y="2413080"/>
              <a:ext cx="98280" cy="313200"/>
              <a:chOff x="3835440" y="2413080"/>
              <a:chExt cx="98280" cy="313200"/>
            </a:xfrm>
          </p:grpSpPr>
          <p:sp>
            <p:nvSpPr>
              <p:cNvPr id="70" name=""/>
              <p:cNvSpPr/>
              <p:nvPr/>
            </p:nvSpPr>
            <p:spPr>
              <a:xfrm>
                <a:off x="3886200" y="241308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835440" y="2556000"/>
                <a:ext cx="98280" cy="17028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7310520" y="2413080"/>
              <a:ext cx="100080" cy="313200"/>
              <a:chOff x="7310520" y="2413080"/>
              <a:chExt cx="100080" cy="313200"/>
            </a:xfrm>
          </p:grpSpPr>
          <p:sp>
            <p:nvSpPr>
              <p:cNvPr id="73" name=""/>
              <p:cNvSpPr/>
              <p:nvPr/>
            </p:nvSpPr>
            <p:spPr>
              <a:xfrm>
                <a:off x="7361280" y="241308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310520" y="2556000"/>
                <a:ext cx="100080" cy="17028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3881520" y="1703160"/>
              <a:ext cx="1650960" cy="170280"/>
              <a:chOff x="3881520" y="1703160"/>
              <a:chExt cx="1650960" cy="170280"/>
            </a:xfrm>
          </p:grpSpPr>
          <p:sp>
            <p:nvSpPr>
              <p:cNvPr id="76" name=""/>
              <p:cNvSpPr/>
              <p:nvPr/>
            </p:nvSpPr>
            <p:spPr>
              <a:xfrm>
                <a:off x="3881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3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9513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226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94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655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37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3084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3783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44960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5212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592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664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7340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805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769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948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98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089680" y="1776960"/>
                <a:ext cx="52200" cy="1764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3" y="8"/>
                    </a:lnTo>
                    <a:lnTo>
                      <a:pt x="33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1609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23224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3038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375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433840" y="1703160"/>
                <a:ext cx="98640" cy="17028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106"/>
                    </a:moveTo>
                    <a:lnTo>
                      <a:pt x="62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227160" y="3508920"/>
              <a:ext cx="1440" cy="219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7160" y="4680360"/>
              <a:ext cx="182520" cy="168480"/>
              <a:chOff x="227160" y="4680360"/>
              <a:chExt cx="182520" cy="168480"/>
            </a:xfrm>
          </p:grpSpPr>
          <p:sp>
            <p:nvSpPr>
              <p:cNvPr id="101" name=""/>
              <p:cNvSpPr/>
              <p:nvPr/>
            </p:nvSpPr>
            <p:spPr>
              <a:xfrm>
                <a:off x="227160" y="476208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11040" y="4680360"/>
                <a:ext cx="98640" cy="16848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27160" y="5150160"/>
              <a:ext cx="182520" cy="168480"/>
              <a:chOff x="227160" y="5150160"/>
              <a:chExt cx="182520" cy="168480"/>
            </a:xfrm>
          </p:grpSpPr>
          <p:sp>
            <p:nvSpPr>
              <p:cNvPr id="104" name=""/>
              <p:cNvSpPr/>
              <p:nvPr/>
            </p:nvSpPr>
            <p:spPr>
              <a:xfrm>
                <a:off x="227160" y="523188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1040" y="5150160"/>
                <a:ext cx="98640" cy="16848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27160" y="5619960"/>
              <a:ext cx="182520" cy="168480"/>
              <a:chOff x="227160" y="5619960"/>
              <a:chExt cx="182520" cy="168480"/>
            </a:xfrm>
          </p:grpSpPr>
          <p:sp>
            <p:nvSpPr>
              <p:cNvPr id="107" name=""/>
              <p:cNvSpPr/>
              <p:nvPr/>
            </p:nvSpPr>
            <p:spPr>
              <a:xfrm>
                <a:off x="227160" y="570168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11040" y="5619960"/>
                <a:ext cx="98640" cy="16848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3062160" y="3508920"/>
              <a:ext cx="1800" cy="172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062160" y="4522680"/>
              <a:ext cx="184320" cy="169920"/>
              <a:chOff x="3062160" y="4522680"/>
              <a:chExt cx="184320" cy="169920"/>
            </a:xfrm>
          </p:grpSpPr>
          <p:sp>
            <p:nvSpPr>
              <p:cNvPr id="111" name=""/>
              <p:cNvSpPr/>
              <p:nvPr/>
            </p:nvSpPr>
            <p:spPr>
              <a:xfrm>
                <a:off x="3062160" y="460584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146400" y="4522680"/>
                <a:ext cx="100080" cy="16992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062160" y="5150160"/>
              <a:ext cx="184320" cy="168480"/>
              <a:chOff x="3062160" y="5150160"/>
              <a:chExt cx="184320" cy="168480"/>
            </a:xfrm>
          </p:grpSpPr>
          <p:sp>
            <p:nvSpPr>
              <p:cNvPr id="114" name=""/>
              <p:cNvSpPr/>
              <p:nvPr/>
            </p:nvSpPr>
            <p:spPr>
              <a:xfrm>
                <a:off x="3062160" y="523188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46400" y="5150160"/>
                <a:ext cx="100080" cy="16848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989680" y="3666600"/>
              <a:ext cx="1440" cy="234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989680" y="4366440"/>
              <a:ext cx="274680" cy="168480"/>
              <a:chOff x="5989680" y="4366440"/>
              <a:chExt cx="274680" cy="168480"/>
            </a:xfrm>
          </p:grpSpPr>
          <p:sp>
            <p:nvSpPr>
              <p:cNvPr id="118" name=""/>
              <p:cNvSpPr/>
              <p:nvPr/>
            </p:nvSpPr>
            <p:spPr>
              <a:xfrm>
                <a:off x="5989680" y="4448160"/>
                <a:ext cx="181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164280" y="4366440"/>
                <a:ext cx="100080" cy="16848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89680" y="4992480"/>
              <a:ext cx="274680" cy="169920"/>
              <a:chOff x="5989680" y="4992480"/>
              <a:chExt cx="274680" cy="169920"/>
            </a:xfrm>
          </p:grpSpPr>
          <p:sp>
            <p:nvSpPr>
              <p:cNvPr id="121" name=""/>
              <p:cNvSpPr/>
              <p:nvPr/>
            </p:nvSpPr>
            <p:spPr>
              <a:xfrm>
                <a:off x="5989680" y="5075640"/>
                <a:ext cx="18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64280" y="4992480"/>
                <a:ext cx="100080" cy="16992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989680" y="5462280"/>
              <a:ext cx="274680" cy="170280"/>
              <a:chOff x="5989680" y="5462280"/>
              <a:chExt cx="274680" cy="170280"/>
            </a:xfrm>
          </p:grpSpPr>
          <p:sp>
            <p:nvSpPr>
              <p:cNvPr id="124" name=""/>
              <p:cNvSpPr/>
              <p:nvPr/>
            </p:nvSpPr>
            <p:spPr>
              <a:xfrm>
                <a:off x="5989680" y="5545800"/>
                <a:ext cx="18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164280" y="5462280"/>
                <a:ext cx="100080" cy="17028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989680" y="5932440"/>
              <a:ext cx="274680" cy="169920"/>
              <a:chOff x="5989680" y="5932440"/>
              <a:chExt cx="274680" cy="169920"/>
            </a:xfrm>
          </p:grpSpPr>
          <p:sp>
            <p:nvSpPr>
              <p:cNvPr id="127" name=""/>
              <p:cNvSpPr/>
              <p:nvPr/>
            </p:nvSpPr>
            <p:spPr>
              <a:xfrm>
                <a:off x="5989680" y="6015600"/>
                <a:ext cx="181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64280" y="5932440"/>
                <a:ext cx="100080" cy="16992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228600" y="533520"/>
            <a:ext cx="8813880" cy="5638680"/>
            <a:chOff x="228600" y="533520"/>
            <a:chExt cx="8813880" cy="5638680"/>
          </a:xfrm>
        </p:grpSpPr>
        <p:sp>
          <p:nvSpPr>
            <p:cNvPr id="130" name=""/>
            <p:cNvSpPr/>
            <p:nvPr/>
          </p:nvSpPr>
          <p:spPr>
            <a:xfrm>
              <a:off x="2133720" y="533520"/>
              <a:ext cx="4876560" cy="63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NIDAD DE DESARROLLORURAL Y MEDIO AMBIENT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78000" y="6206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600" y="2882880"/>
              <a:ext cx="152388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9200" y="3108240"/>
              <a:ext cx="7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M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67280" y="3025800"/>
              <a:ext cx="2286000" cy="63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34760" y="3184560"/>
              <a:ext cx="18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EDIO AMB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46480" y="4448160"/>
              <a:ext cx="1461960" cy="140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64360" y="4292640"/>
              <a:ext cx="2195280" cy="18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53280" y="4371840"/>
              <a:ext cx="1146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ANTER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040" y="4871880"/>
              <a:ext cx="2260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SANEMIENTO BASI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8960" y="5372280"/>
              <a:ext cx="2693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ATRIMONIO AMBIENT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24640" y="1473120"/>
              <a:ext cx="3020760" cy="47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65480" y="1646280"/>
              <a:ext cx="2510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SEJO DE DESARROLLO RU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86200" y="1158840"/>
              <a:ext cx="1440" cy="12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41560" y="2413080"/>
              <a:ext cx="621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1090440" y="2413080"/>
              <a:ext cx="100080" cy="313920"/>
              <a:chOff x="1090440" y="2413080"/>
              <a:chExt cx="100080" cy="313920"/>
            </a:xfrm>
          </p:grpSpPr>
          <p:sp>
            <p:nvSpPr>
              <p:cNvPr id="146" name=""/>
              <p:cNvSpPr/>
              <p:nvPr/>
            </p:nvSpPr>
            <p:spPr>
              <a:xfrm>
                <a:off x="114156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09044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7310520" y="2413080"/>
              <a:ext cx="100080" cy="313920"/>
              <a:chOff x="7310520" y="2413080"/>
              <a:chExt cx="100080" cy="313920"/>
            </a:xfrm>
          </p:grpSpPr>
          <p:sp>
            <p:nvSpPr>
              <p:cNvPr id="149" name=""/>
              <p:cNvSpPr/>
              <p:nvPr/>
            </p:nvSpPr>
            <p:spPr>
              <a:xfrm>
                <a:off x="736128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31052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881520" y="1703520"/>
              <a:ext cx="1650960" cy="169200"/>
              <a:chOff x="3881520" y="1703520"/>
              <a:chExt cx="1650960" cy="169200"/>
            </a:xfrm>
          </p:grpSpPr>
          <p:sp>
            <p:nvSpPr>
              <p:cNvPr id="152" name=""/>
              <p:cNvSpPr/>
              <p:nvPr/>
            </p:nvSpPr>
            <p:spPr>
              <a:xfrm>
                <a:off x="3881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3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513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226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94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55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237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084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783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4960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5212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592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64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340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05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8769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948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0198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089680" y="1776960"/>
                <a:ext cx="52200" cy="1764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3" y="8"/>
                    </a:lnTo>
                    <a:lnTo>
                      <a:pt x="33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609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23224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038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375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33840" y="1703520"/>
                <a:ext cx="98640" cy="16920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106"/>
                    </a:moveTo>
                    <a:lnTo>
                      <a:pt x="62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5943600" y="36576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5989680" y="4343400"/>
              <a:ext cx="334440" cy="191880"/>
              <a:chOff x="5989680" y="4343400"/>
              <a:chExt cx="334440" cy="191880"/>
            </a:xfrm>
          </p:grpSpPr>
          <p:sp>
            <p:nvSpPr>
              <p:cNvPr id="177" name=""/>
              <p:cNvSpPr/>
              <p:nvPr/>
            </p:nvSpPr>
            <p:spPr>
              <a:xfrm>
                <a:off x="5989680" y="4436640"/>
                <a:ext cx="220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02440" y="4343400"/>
                <a:ext cx="121680" cy="19188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5943600" y="4952880"/>
              <a:ext cx="380520" cy="228240"/>
              <a:chOff x="5943600" y="4952880"/>
              <a:chExt cx="380520" cy="228240"/>
            </a:xfrm>
          </p:grpSpPr>
          <p:sp>
            <p:nvSpPr>
              <p:cNvPr id="180" name=""/>
              <p:cNvSpPr/>
              <p:nvPr/>
            </p:nvSpPr>
            <p:spPr>
              <a:xfrm>
                <a:off x="5943600" y="5064840"/>
                <a:ext cx="250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85520" y="4952880"/>
                <a:ext cx="138600" cy="22824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989680" y="5462640"/>
              <a:ext cx="274680" cy="169560"/>
              <a:chOff x="5989680" y="5462640"/>
              <a:chExt cx="274680" cy="169560"/>
            </a:xfrm>
          </p:grpSpPr>
          <p:sp>
            <p:nvSpPr>
              <p:cNvPr id="183" name=""/>
              <p:cNvSpPr/>
              <p:nvPr/>
            </p:nvSpPr>
            <p:spPr>
              <a:xfrm>
                <a:off x="5989680" y="5545800"/>
                <a:ext cx="18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64280" y="5462640"/>
                <a:ext cx="100080" cy="16956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44280" y="457200"/>
            <a:ext cx="8337600" cy="4485600"/>
            <a:chOff x="44280" y="457200"/>
            <a:chExt cx="8337600" cy="4485600"/>
          </a:xfrm>
        </p:grpSpPr>
        <p:sp>
          <p:nvSpPr>
            <p:cNvPr id="186" name=""/>
            <p:cNvSpPr/>
            <p:nvPr/>
          </p:nvSpPr>
          <p:spPr>
            <a:xfrm>
              <a:off x="2286000" y="457200"/>
              <a:ext cx="419112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36120" y="457200"/>
              <a:ext cx="37893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RETARIA DE HACIENDA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RÉDITO PUBL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280" y="2882880"/>
              <a:ext cx="219744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4560" y="2978280"/>
              <a:ext cx="15264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CCIÓN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ESUPUES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71800" y="2878200"/>
              <a:ext cx="2104920" cy="47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77520" y="2971800"/>
              <a:ext cx="119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ESORER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9920" y="2819520"/>
              <a:ext cx="2361960" cy="63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5200" y="2955960"/>
              <a:ext cx="1600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ABIL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0400" y="4683240"/>
              <a:ext cx="423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A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000" y="4267080"/>
              <a:ext cx="50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A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35760" y="3886200"/>
              <a:ext cx="423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A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24640" y="1473120"/>
              <a:ext cx="1919160" cy="47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9680" y="1565280"/>
              <a:ext cx="1657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ITE DE HACIEN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200" y="1158840"/>
              <a:ext cx="1440" cy="12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41560" y="2413080"/>
              <a:ext cx="621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1090440" y="2413080"/>
              <a:ext cx="100080" cy="313920"/>
              <a:chOff x="1090440" y="2413080"/>
              <a:chExt cx="100080" cy="313920"/>
            </a:xfrm>
          </p:grpSpPr>
          <p:sp>
            <p:nvSpPr>
              <p:cNvPr id="202" name=""/>
              <p:cNvSpPr/>
              <p:nvPr/>
            </p:nvSpPr>
            <p:spPr>
              <a:xfrm>
                <a:off x="114156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9044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3835440" y="2413080"/>
              <a:ext cx="98280" cy="313920"/>
              <a:chOff x="3835440" y="2413080"/>
              <a:chExt cx="98280" cy="313920"/>
            </a:xfrm>
          </p:grpSpPr>
          <p:sp>
            <p:nvSpPr>
              <p:cNvPr id="205" name=""/>
              <p:cNvSpPr/>
              <p:nvPr/>
            </p:nvSpPr>
            <p:spPr>
              <a:xfrm>
                <a:off x="388620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835440" y="2556000"/>
                <a:ext cx="98280" cy="17100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7310520" y="2413080"/>
              <a:ext cx="100080" cy="313920"/>
              <a:chOff x="7310520" y="2413080"/>
              <a:chExt cx="100080" cy="313920"/>
            </a:xfrm>
          </p:grpSpPr>
          <p:sp>
            <p:nvSpPr>
              <p:cNvPr id="208" name=""/>
              <p:cNvSpPr/>
              <p:nvPr/>
            </p:nvSpPr>
            <p:spPr>
              <a:xfrm>
                <a:off x="736128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31052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3881520" y="1703520"/>
              <a:ext cx="1650960" cy="169200"/>
              <a:chOff x="3881520" y="1703520"/>
              <a:chExt cx="1650960" cy="169200"/>
            </a:xfrm>
          </p:grpSpPr>
          <p:sp>
            <p:nvSpPr>
              <p:cNvPr id="211" name=""/>
              <p:cNvSpPr/>
              <p:nvPr/>
            </p:nvSpPr>
            <p:spPr>
              <a:xfrm>
                <a:off x="3881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3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513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226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94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655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237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084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3783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44960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212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592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64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7340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805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769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948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198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89680" y="1776960"/>
                <a:ext cx="52200" cy="1764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3" y="8"/>
                    </a:lnTo>
                    <a:lnTo>
                      <a:pt x="33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609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23224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3038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75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33840" y="1703520"/>
                <a:ext cx="98640" cy="16920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106"/>
                    </a:moveTo>
                    <a:lnTo>
                      <a:pt x="62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227160" y="3508200"/>
              <a:ext cx="1440" cy="13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74680" y="4680000"/>
              <a:ext cx="182520" cy="169560"/>
              <a:chOff x="274680" y="4680000"/>
              <a:chExt cx="182520" cy="169560"/>
            </a:xfrm>
          </p:grpSpPr>
          <p:sp>
            <p:nvSpPr>
              <p:cNvPr id="236" name=""/>
              <p:cNvSpPr/>
              <p:nvPr/>
            </p:nvSpPr>
            <p:spPr>
              <a:xfrm>
                <a:off x="274680" y="476244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58560" y="4680000"/>
                <a:ext cx="98640" cy="16956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274680" y="4267080"/>
              <a:ext cx="182520" cy="169560"/>
              <a:chOff x="274680" y="4267080"/>
              <a:chExt cx="182520" cy="169560"/>
            </a:xfrm>
          </p:grpSpPr>
          <p:sp>
            <p:nvSpPr>
              <p:cNvPr id="239" name=""/>
              <p:cNvSpPr/>
              <p:nvPr/>
            </p:nvSpPr>
            <p:spPr>
              <a:xfrm>
                <a:off x="274680" y="434952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8560" y="4267080"/>
                <a:ext cx="98640" cy="16956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3048120" y="33526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3062160" y="3886200"/>
              <a:ext cx="184320" cy="169560"/>
              <a:chOff x="3062160" y="3886200"/>
              <a:chExt cx="184320" cy="169560"/>
            </a:xfrm>
          </p:grpSpPr>
          <p:sp>
            <p:nvSpPr>
              <p:cNvPr id="243" name=""/>
              <p:cNvSpPr/>
              <p:nvPr/>
            </p:nvSpPr>
            <p:spPr>
              <a:xfrm>
                <a:off x="3062160" y="396936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46400" y="3886200"/>
                <a:ext cx="100080" cy="16956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44280" y="533520"/>
            <a:ext cx="8794800" cy="5324400"/>
            <a:chOff x="44280" y="533520"/>
            <a:chExt cx="8794800" cy="5324400"/>
          </a:xfrm>
        </p:grpSpPr>
        <p:sp>
          <p:nvSpPr>
            <p:cNvPr id="246" name=""/>
            <p:cNvSpPr/>
            <p:nvPr/>
          </p:nvSpPr>
          <p:spPr>
            <a:xfrm>
              <a:off x="2362320" y="533520"/>
              <a:ext cx="3733560" cy="63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35400" y="620640"/>
              <a:ext cx="356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GRETARIA DE GOBIE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280" y="2882880"/>
              <a:ext cx="219744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4680" y="2978280"/>
              <a:ext cx="1706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TICIP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UDAD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14600" y="2895480"/>
              <a:ext cx="2895480" cy="61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90920" y="2971800"/>
              <a:ext cx="2752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ENCION Y PREVENC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 DESAST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67280" y="2895480"/>
              <a:ext cx="2971800" cy="63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4800" y="3135240"/>
              <a:ext cx="251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GURIDAD CIUDAD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1360" y="4648320"/>
              <a:ext cx="550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J.A.C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600" y="5105520"/>
              <a:ext cx="1259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MITÉ J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46480" y="4448160"/>
              <a:ext cx="1461960" cy="140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37920" y="4451400"/>
              <a:ext cx="19468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ONAS DE AMENAZ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 RIEZG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37200" y="5121360"/>
              <a:ext cx="228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STANCIAS DE ATEN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01160" y="4343400"/>
              <a:ext cx="203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ENCIÓN POLICI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86200" y="1158840"/>
              <a:ext cx="1440" cy="12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41560" y="2413080"/>
              <a:ext cx="621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090440" y="2413080"/>
              <a:ext cx="100080" cy="313920"/>
              <a:chOff x="1090440" y="2413080"/>
              <a:chExt cx="100080" cy="313920"/>
            </a:xfrm>
          </p:grpSpPr>
          <p:sp>
            <p:nvSpPr>
              <p:cNvPr id="263" name=""/>
              <p:cNvSpPr/>
              <p:nvPr/>
            </p:nvSpPr>
            <p:spPr>
              <a:xfrm>
                <a:off x="114156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09044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3835440" y="2413080"/>
              <a:ext cx="98280" cy="313920"/>
              <a:chOff x="3835440" y="2413080"/>
              <a:chExt cx="98280" cy="313920"/>
            </a:xfrm>
          </p:grpSpPr>
          <p:sp>
            <p:nvSpPr>
              <p:cNvPr id="266" name=""/>
              <p:cNvSpPr/>
              <p:nvPr/>
            </p:nvSpPr>
            <p:spPr>
              <a:xfrm>
                <a:off x="388620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835440" y="2556000"/>
                <a:ext cx="98280" cy="17100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7310520" y="2413080"/>
              <a:ext cx="100080" cy="313920"/>
              <a:chOff x="7310520" y="2413080"/>
              <a:chExt cx="100080" cy="313920"/>
            </a:xfrm>
          </p:grpSpPr>
          <p:sp>
            <p:nvSpPr>
              <p:cNvPr id="269" name=""/>
              <p:cNvSpPr/>
              <p:nvPr/>
            </p:nvSpPr>
            <p:spPr>
              <a:xfrm>
                <a:off x="736128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31052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228600" y="350532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227160" y="4680000"/>
              <a:ext cx="182520" cy="169560"/>
              <a:chOff x="227160" y="4680000"/>
              <a:chExt cx="182520" cy="169560"/>
            </a:xfrm>
          </p:grpSpPr>
          <p:sp>
            <p:nvSpPr>
              <p:cNvPr id="273" name=""/>
              <p:cNvSpPr/>
              <p:nvPr/>
            </p:nvSpPr>
            <p:spPr>
              <a:xfrm>
                <a:off x="227160" y="476244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1040" y="4680000"/>
                <a:ext cx="98640" cy="16956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27160" y="5149800"/>
              <a:ext cx="182520" cy="169560"/>
              <a:chOff x="227160" y="5149800"/>
              <a:chExt cx="182520" cy="169560"/>
            </a:xfrm>
          </p:grpSpPr>
          <p:sp>
            <p:nvSpPr>
              <p:cNvPr id="276" name=""/>
              <p:cNvSpPr/>
              <p:nvPr/>
            </p:nvSpPr>
            <p:spPr>
              <a:xfrm>
                <a:off x="227160" y="523224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1040" y="5149800"/>
                <a:ext cx="98640" cy="16956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062160" y="3508200"/>
              <a:ext cx="1800" cy="17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062160" y="4522680"/>
              <a:ext cx="184320" cy="169560"/>
              <a:chOff x="3062160" y="4522680"/>
              <a:chExt cx="184320" cy="169560"/>
            </a:xfrm>
          </p:grpSpPr>
          <p:sp>
            <p:nvSpPr>
              <p:cNvPr id="280" name=""/>
              <p:cNvSpPr/>
              <p:nvPr/>
            </p:nvSpPr>
            <p:spPr>
              <a:xfrm>
                <a:off x="3062160" y="460584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46400" y="4522680"/>
                <a:ext cx="100080" cy="16956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3062160" y="5149800"/>
              <a:ext cx="184320" cy="169560"/>
              <a:chOff x="3062160" y="5149800"/>
              <a:chExt cx="184320" cy="169560"/>
            </a:xfrm>
          </p:grpSpPr>
          <p:sp>
            <p:nvSpPr>
              <p:cNvPr id="283" name=""/>
              <p:cNvSpPr/>
              <p:nvPr/>
            </p:nvSpPr>
            <p:spPr>
              <a:xfrm>
                <a:off x="3062160" y="523224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146400" y="5149800"/>
                <a:ext cx="100080" cy="16956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6019920" y="36576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989680" y="4367160"/>
              <a:ext cx="274680" cy="168120"/>
              <a:chOff x="5989680" y="4367160"/>
              <a:chExt cx="274680" cy="168120"/>
            </a:xfrm>
          </p:grpSpPr>
          <p:sp>
            <p:nvSpPr>
              <p:cNvPr id="287" name=""/>
              <p:cNvSpPr/>
              <p:nvPr/>
            </p:nvSpPr>
            <p:spPr>
              <a:xfrm>
                <a:off x="5989680" y="4448880"/>
                <a:ext cx="181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64280" y="4367160"/>
                <a:ext cx="100080" cy="16812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5989680" y="4992840"/>
              <a:ext cx="274680" cy="169200"/>
              <a:chOff x="5989680" y="4992840"/>
              <a:chExt cx="274680" cy="169200"/>
            </a:xfrm>
          </p:grpSpPr>
          <p:sp>
            <p:nvSpPr>
              <p:cNvPr id="290" name=""/>
              <p:cNvSpPr/>
              <p:nvPr/>
            </p:nvSpPr>
            <p:spPr>
              <a:xfrm>
                <a:off x="5989680" y="5075640"/>
                <a:ext cx="18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164280" y="4992840"/>
                <a:ext cx="100080" cy="1692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>
            <a:off x="6400800" y="487692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GANIZACIÓN COMUN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666880" y="304920"/>
            <a:ext cx="3733920" cy="85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77760" y="457200"/>
            <a:ext cx="3467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NDO MUNICIPAL D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COTUR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2800" y="2978280"/>
            <a:ext cx="1919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MOC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2895480"/>
            <a:ext cx="2133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03280" y="2971800"/>
            <a:ext cx="96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V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680" y="4606920"/>
            <a:ext cx="1373040" cy="140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17920" y="1158840"/>
            <a:ext cx="1800" cy="12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1560" y="2413080"/>
            <a:ext cx="6219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090440" y="2413080"/>
            <a:ext cx="100080" cy="313920"/>
            <a:chOff x="1090440" y="2413080"/>
            <a:chExt cx="100080" cy="313920"/>
          </a:xfrm>
        </p:grpSpPr>
        <p:sp>
          <p:nvSpPr>
            <p:cNvPr id="302" name=""/>
            <p:cNvSpPr/>
            <p:nvPr/>
          </p:nvSpPr>
          <p:spPr>
            <a:xfrm>
              <a:off x="1141560" y="2413080"/>
              <a:ext cx="144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90440" y="2556000"/>
              <a:ext cx="100080" cy="171000"/>
            </a:xfrm>
            <a:custGeom>
              <a:avLst/>
              <a:gdLst/>
              <a:ahLst/>
              <a:rect l="l" t="t" r="r" b="b"/>
              <a:pathLst>
                <a:path w="63" h="106">
                  <a:moveTo>
                    <a:pt x="0" y="0"/>
                  </a:moveTo>
                  <a:lnTo>
                    <a:pt x="32" y="106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310520" y="2413080"/>
            <a:ext cx="100080" cy="313920"/>
            <a:chOff x="7310520" y="2413080"/>
            <a:chExt cx="100080" cy="313920"/>
          </a:xfrm>
        </p:grpSpPr>
        <p:sp>
          <p:nvSpPr>
            <p:cNvPr id="305" name=""/>
            <p:cNvSpPr/>
            <p:nvPr/>
          </p:nvSpPr>
          <p:spPr>
            <a:xfrm>
              <a:off x="7361280" y="2413080"/>
              <a:ext cx="144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10520" y="2556000"/>
              <a:ext cx="100080" cy="171000"/>
            </a:xfrm>
            <a:custGeom>
              <a:avLst/>
              <a:gdLst/>
              <a:ahLst/>
              <a:rect l="l" t="t" r="r" b="b"/>
              <a:pathLst>
                <a:path w="63" h="106">
                  <a:moveTo>
                    <a:pt x="0" y="0"/>
                  </a:moveTo>
                  <a:lnTo>
                    <a:pt x="32" y="106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85800" y="289548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6T11:25:27Z</dcterms:created>
  <dc:creator>ZZZZZ</dc:creator>
  <dc:description/>
  <dc:language>en-US</dc:language>
  <cp:lastModifiedBy>L</cp:lastModifiedBy>
  <dcterms:modified xsi:type="dcterms:W3CDTF">1999-11-23T14:08:28Z</dcterms:modified>
  <cp:revision>11</cp:revision>
  <dc:subject/>
  <dc:title>Sin título de diapositiva</dc:title>
</cp:coreProperties>
</file>